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9CE-5621-4F59-81DE-C1EDA476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8B9F-3210-4CA3-986B-0095A26E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932-78D2-4B88-BCBF-CE578496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0D2-4607-48EB-9DAD-50882EC1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5FC9-77FA-459F-83C2-2497DBA9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27F-D721-4A2C-ABF2-D6839306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9A88-38BF-4F1C-B0A1-F56E4324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0AB-302D-4C94-A04D-088DEA20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A03-3118-43AD-BF8E-96E71291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B229-D064-41DE-9108-39BC6925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0A63-3F7A-4959-A67F-CA985160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540-C2B4-44A5-A267-6ECDBAA7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DEF6-267C-4DB5-88EF-34884F5A3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ie Funktionsweise der Gelen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m Beispiel des Ellenbogengelenk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knochen" descr=""/>
          <p:cNvPicPr/>
          <p:nvPr/>
        </p:nvPicPr>
        <p:blipFill>
          <a:blip r:embed="rId1"/>
          <a:stretch/>
        </p:blipFill>
        <p:spPr>
          <a:xfrm>
            <a:off x="2770200" y="700200"/>
            <a:ext cx="36036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knochen1b" descr=""/>
          <p:cNvPicPr/>
          <p:nvPr/>
        </p:nvPicPr>
        <p:blipFill>
          <a:blip r:embed="rId1"/>
          <a:stretch/>
        </p:blipFill>
        <p:spPr>
          <a:xfrm>
            <a:off x="2770200" y="716040"/>
            <a:ext cx="36036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15:29:46Z</dcterms:created>
  <dc:creator>Christiane Ziemer</dc:creator>
  <dc:description/>
  <dc:language>en-US</dc:language>
  <cp:lastModifiedBy>Christiane Ziemer</cp:lastModifiedBy>
  <dcterms:modified xsi:type="dcterms:W3CDTF">1999-04-14T15:34:52Z</dcterms:modified>
  <cp:revision>1</cp:revision>
  <dc:subject/>
  <dc:title>Die Funktionsweise der Gelenke</dc:title>
</cp:coreProperties>
</file>